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124-921C-44C0-8B54-A3F4ABF0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FA1-ECE9-4E66-9D94-C1CDB327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89F4-E300-4775-AB79-1D8A37F0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02671-DC77-4081-872C-C305CB5A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6A8C1-1529-419E-AA37-9BC84F8F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3A3BD-76AF-4564-92D9-A315F85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81AE9-4FB4-4071-AE66-8F885575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7FAC8-2691-4433-9ED9-902FD61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BE566-C7A3-4DC5-82DD-E062D80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8C1A8-3B5E-419C-8EDB-3364A111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AA161-E55E-4A6F-934A-010A6271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A46EA-D3DC-4928-B35C-CFAE5226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C5D-54C8-4855-8F84-9B03420C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BCAD3-8E0B-4670-A7F3-C863AAE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1376-8651-4A82-A951-C13387D9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C64FD-B9CD-4446-BC4E-DC4176CA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A71A-EDA3-4674-B963-018B50E5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E0747-AF59-47DB-B6F7-E74E1123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D9480-76B3-4471-B322-12095C6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A1943-0973-418B-8448-3F95142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6D328-9A8C-4765-A601-706D71BC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3DCB3-DCEA-4DAE-854E-87E962B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4924E-7C19-4E71-9544-E0FA749F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195-D8A3-4465-ADF1-DF6481CE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862A8-9A40-497C-A419-1F34D63D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E762-EE50-48FE-BD6F-2AF0F494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34C24-C325-4211-B751-094C7EC1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8111D-C988-4D9B-8E68-FCFB459C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694AA-A9A5-4B7D-8A0A-447E5B3C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960A-031E-4C97-89C9-E7F2117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1BAA-1107-4275-A731-A7482C30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E7A5-C867-4CD5-B55E-6A83598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512B0-E4F8-4768-84E5-0667D49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187D9-BD45-43AE-8D94-51AD937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96D-F410-4186-8EF6-C9D84921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00E2E-7D94-45F4-BCA3-5F1B7B11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80CA5-60F3-4C78-85F6-0C55C126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2848B-E8CE-49B0-B861-8599741D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93207-E330-42EB-BC8E-9F9A28D5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D8932-4AD6-4EB4-8AFA-28C3BDC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2248-2B07-48F6-B352-E14B64BB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BBDAB-7F49-4891-9343-AB5C6595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7DCFE-7ADD-48E4-824B-E1604DF4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A7B26-5E1D-42D0-8F87-FDF26BE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1996C-4212-4044-BEF9-134DDE2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701F-A5A9-4694-9B54-A9C50062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B438D-9F63-4093-9683-3968DC1A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71397-54AA-4BC7-8AE1-8F866965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9B2BB-396B-4BCA-8CD6-DD48269C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CC168-A8D4-4EE6-A90B-AFE0D46E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E5FB5-328D-448C-8C8D-48617C68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E8743-A601-4279-8AAD-F2F7EEA5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23E05-429D-4C87-B239-458F2226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37EFE-0C60-46F0-B8FD-A2CC595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A5402-C055-4E12-8258-A4EA27FB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1A05D-B404-4CB8-B7FC-446CD609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DE1C-4F2E-486F-90A3-6A89D34E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6BD4F-7A3F-43B1-89AD-6A991A2E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373CF-834F-4BF8-BCB6-86C86C9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0ECA1-0B58-4459-9D5B-A1015A4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D59BB-0867-4564-AC49-AE57951E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D22C7-7EC3-4123-82EF-12097EA7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048F5-524D-4938-AE01-2DA6BC97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C7D19-B209-45EC-BDBD-2D14A622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3BBA0-DF14-4ED9-808C-2F0B594B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BACF1-EA29-44BE-A5F9-CC4DC7E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80C08-E69A-45DE-A460-17CA289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2BBC-86FE-406D-89DB-A2729899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F8626-9046-4136-A69B-1C50EFAA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8C246-95B0-4329-9D55-DD9525AF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817AD-1816-407B-8979-BF33B62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8EEEA-51EE-4244-B057-F5EA561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406BF-FB9E-4A31-9487-47A0B93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12972-0932-4696-942C-34F5E66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F4D5C-6650-4DA2-8186-96E1CE84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FE4B5-883D-4A93-B0B6-E63A127D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C4A60-721A-48CC-8EFD-3F2BD9A3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F5BE8-B874-4099-BAF8-97944DA6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E66F-97D4-40E6-B695-FF68467F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2B22F-1A18-42D6-9C45-4615CE66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F6DEF-94D8-4D91-9834-5E2B26C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102F9-60C6-4AA0-A70B-0634BF3F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0CEAC-5AE6-465C-B324-F459B7BA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94135-9D6A-4BC5-979F-BBF15C6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346D5-4DE7-4F97-831B-8E322B1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D0D29-1A19-4534-816D-D95351F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5AA75-0F91-4D8B-AE92-0D74810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BC44B-B93E-4EC2-A03C-BEAF5BC0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CE3C9-46D7-4FE7-ADAB-D7C601BD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C4D4-50AF-49B9-B3CE-2DE3216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7B0B5-C84F-4C5D-B210-7569EB9D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38A8A-3275-4C4A-B63F-E360E5EC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E8DE2-861B-4C47-962B-303F2C75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78507-235E-494B-8EFD-DEF74826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75F76-5E7C-4285-970C-B98F8E1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105AB-4159-457B-9D71-2F7B1D9B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97AEC-1C00-4E47-A831-06677DB3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B4BD1-E3A5-4BF3-B7C3-6E6106B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76045-E42B-442B-B28F-8407C58C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EF97A-BD5D-4DB0-A21E-D705EF4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80E7-653E-4931-8244-E444E11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20682-65E6-498E-BDC0-7201FA73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F7624-015D-4FBC-A22C-6310A548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1CF2C-1E01-400B-B373-896F4A9B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C4C2C-93F9-4D29-912F-A0E12911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64318-1C56-4DAC-B5D0-F6EE195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A6810-C9FD-4D36-AF8F-4FD58832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9720B-820F-47BA-BD22-DBA85BC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64640-F4AB-4D9D-95D2-95D53A64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D0D97-A938-43C1-A2D9-BD93168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FBE22-C84B-4F73-9200-B8CC5518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80F-E57F-4795-8EC4-C56FE19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E054-1A37-4339-964D-8361ED8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B880B-6F6C-49BC-BD34-DFCCE3E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51F94-FF4E-4F9D-BC11-7DCB6EF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44A84-DD96-43B0-AB53-CBACAB4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46842-CEB4-4D15-AD31-D1A25F33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ED3DF-2721-4FC7-807D-C16508B8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70D97-E63A-4648-9B26-D9313FE3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B2528-3D0E-456F-80C9-4B129D0A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ACB66-1E9A-4F48-B3C6-4198490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6D5E8-9099-435E-87DB-D2509E6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1624D-9ABC-42E4-87B9-4CB9C521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1027-90D3-4F49-ACCE-9A826D3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6681D-4070-451F-A929-8959F1A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0F95A-2216-42B9-9D77-92871D93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C2617-A460-4B0C-9F73-84ADE4D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BA5B2-3767-4F0F-89FD-138144B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3D32B-5B2D-4AA9-9762-ACDD1540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F5113-D059-409A-9219-0D0793D2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43520-88E8-4D56-937A-E30A3F08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5552A-D4D1-4E4D-BBF5-CA9E387A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D66BC-C3D7-4005-B450-E9C3EEC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43328-4260-4D35-8459-D0F8CDE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E016-6A5E-4EDD-8D39-B578C9E0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5383B-F1DF-4C90-A1FA-6BDF68A7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42A21-2CC1-4540-896D-E413D9D2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9D080-6E27-47D5-A0E2-120D1FF8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86A8D-D8DB-43CC-A732-1EAC8D3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A90CD-0E36-4B85-A41C-443377E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2E250-AD76-4C42-8CB6-A271FDF0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048BE-FEEE-414F-9892-132685A4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8C234-0184-4765-A5B6-83F934D6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FA47E-EEC8-4071-B2A2-F5D69E67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70B1A-E5A4-4F17-B5EF-6704F1D4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1F9B-13EA-47AC-92E8-4C0CC320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CA1BD9-CEB2-41AD-8468-B2DD0BF9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D3CF3-F9B5-4FE9-A0A3-65AB19E2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34CE9-4D7F-458E-BBC2-550714FA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8188ED-0F70-4E1F-9602-65FC7093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21B5A-F23B-4CE9-B4CE-41EBC831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43FD9-4C0C-498D-B556-44C2159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72A9D-C272-4A93-A07B-1EEC910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E5632-58CD-4D94-B52E-D7C7ABB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64102-0500-47C7-AAD1-E6E9977D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8E3A3-2D9C-4A10-A552-BF51ECF6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9409-59CE-4AF6-923B-DAE31446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35351-FB54-4742-8C95-BB3251D6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89B2C8-C512-45AB-9C7A-84784761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C5CB51-37F6-409F-AFC4-118885C7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AB932-8FA3-4DC7-BD12-6F3DFF02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7AF1C-D2EF-44FF-8BA9-C26E544C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760D5-9528-4385-A57B-1AA56267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DF248-6496-4122-A905-45CFBA3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C3E19-46CC-47A5-ADAE-9A43694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C777C-378A-4130-95E7-5987926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252E6-7409-402A-B0E1-D5DC0E6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C6E0-07AE-4F79-B473-BC96117C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373A3-608E-4EAB-BE45-C4ED8EB6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5929A-51C3-45F8-B48E-C7FEBEE8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89094-E1B0-47EB-8C68-456369AA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E0CE-985D-4185-A3A0-C6B4B786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9B79-BAB6-4D50-AAE0-3D5BFF1D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7BC4-3817-44D4-9017-77B664BC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B7DF-0CCD-4A38-BABB-32186106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5B8-0E65-4B18-B7D6-8138F3FB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3905-8174-428E-A94B-CA17B71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8DF6-992D-4F62-A061-D8F526DA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2197-F810-4E9F-B31A-AA80917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E770-9ACE-4694-9A3B-DD5226E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4283-A752-4465-BC0D-D80402B3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2BB3-CF1B-4C13-A98B-2D4D25DC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387C-5B61-4F33-A807-E1E28E55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946F-D2DA-4DEF-A53A-B6359341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7544-83C7-49E1-B436-2FB33F3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BEB0-8B04-4763-8032-01EB1B6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B90-CDEF-422C-959E-24684777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EA7C-49EC-4321-9FD3-BDDF0112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2EBA-2680-418C-AA2F-76966E06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D6EA-62DB-4B9E-AF2B-0A8CBBF2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03F67-8CA7-40DB-B5D0-3A26DE6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ECF5-ABB9-4AC8-9F0E-C5499FF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3B58-7B4B-4334-B136-520A180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9AD9-68F5-4A36-9695-F033A3D1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DE02-8D44-4D10-A09E-CD5E0DE1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FE6A-FEA7-4B5A-9436-EFDF203C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4305-5A39-47AA-8213-F5B87465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8B9-AD16-4066-80E2-9DDB0B1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0AEBA-02E5-4FAF-A3F0-A50C1D2D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5E25-6376-4048-A01E-70288161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52CD-7AB2-4045-AC9A-1A0A188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621E-BD80-4CF6-BCF9-FE342DDD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E382A-D2E8-4127-9837-49263E3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A0C2-035C-408F-8EDB-78BB850A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81AB-655A-4C80-8B9A-A212572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4E11-A19A-425A-A376-654A88C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9CB53-43C3-4E65-BD9E-8CFBC54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7CBB4-4B6E-44C0-8E05-BEA18FDE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9B7-699A-43AC-A142-56379A66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5E743-BDBA-40C5-9C06-52162DC3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AA03-E9BB-44E8-8445-52A0A438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0164-9C84-4BA3-AF03-D268B6A2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2FA3-481E-48C6-A2AB-29545562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5503D-7D66-4689-B729-AF8A786F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50E4-F9C3-4106-9A8D-6C76CEAA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F154-FB9F-4269-A198-38542667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44A1-88F6-4FA3-9553-C247776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60FE-5E91-462A-A573-84DBF1F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280C-2268-4261-A8DD-9A1259B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E15-A8C7-4534-9D92-C654EA69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8E86B-F727-4218-90D7-C218DA0A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15D83-2456-4A9A-8065-FCBD6277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A3FB8-C6A7-4CD1-8092-426FDB6B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B190-3829-4845-932C-FE51E710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D9DE-1DEF-40EA-B50A-009B368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744A1-2044-467B-A2EE-AB3062D8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0417-CE9F-4F7A-A8E0-378F589E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D360-8EB5-48E1-9DD3-634E976B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5500-CE7B-461F-978F-75B45EF4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F5A6-2F99-4572-9A81-8F0E230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2A5-602F-4B7F-B28E-80F5F7B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BD12-95C3-4E90-8782-2CD0CC88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4C27-79F2-4ADF-AF01-46D62F6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B0C2-FDD7-47BA-9170-9FD0C08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4AAEE-7714-47D0-87C9-F5711CE4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BE45-5D5B-41BA-876E-368CB69A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B49B6-BCA0-4B95-B207-BE2DFF9C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68EE1-CD2B-4171-9576-EDE79425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C238-82E8-42D6-8903-2F87907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A3BDA-F359-4CD9-A997-E72C7DD4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A3A80-A450-41D4-9552-249BEEFE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F22-AAB1-4138-8608-E00DB131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B7FDA-B4CF-435D-8FE7-CE7156C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9D616-D476-4383-A2D8-184C7C09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A6650-6082-4C75-8B23-FDFDA0AA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A0A1A-33FD-4DCC-8E89-E9C5B96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C256F-66A6-4E29-B2FA-BCFA5B88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7820-A1D1-46F9-A17E-238990C5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0254B-A99B-43CA-83FB-AAF3FF2B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CA79B-2CE8-49C7-8CC9-8CA83EE6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20A24-C97E-4F96-A143-FFB38CC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A3B9-01B8-4804-9419-FD23CD9D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E9C1-3A0C-40A8-B14D-60188E8D4A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368B-F400-49A5-A584-9B85D9EA8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0DD-B57E-4D5B-8DC0-FBDD751DDD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834-2774-44E9-B6C6-39A8F0A1E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106D-A277-44AD-826F-85E1273314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D35-5EA0-4D33-8E83-4B4A1BFD5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CA3-9C05-4C82-939B-3D3DFA604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BE01-D046-498C-8D31-4219A6B65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812E-C73D-4CC1-870E-526BE4303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CEC2-CD80-4766-9117-E27653630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4882-2E0A-4CD4-90B9-EC205BA73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E4BA-34F5-407A-A0FB-8DD8DC024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1BE8-0A13-427A-B5CB-9E3B59405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8C1E-A606-452F-9355-08C3DDAF5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53F6-E8BA-442F-9478-9C5FFC32C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4FE8-70E7-4B06-8F17-98CCD262B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4A2-960A-4A1E-965D-EE15FB3B5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E33-527F-4CDD-AB19-77CA6B884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1448-CFA7-4C4E-A9EA-CF5867409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D997-20C8-4DE5-8F16-E45715D3A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EBEE-0E3F-4E1D-A968-6D415BEBF0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CCA0-38CF-49D2-AFFD-31FA074F4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EDA-77FC-455E-8693-778570B93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F494-7BEF-454D-BFE5-74A34589BA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FE3-6F30-4D28-9E2B-30A1C05BF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BCC2-2A05-4843-9280-D829578619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0E92-E36C-471D-8B9E-722283207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6AF2-7123-4CED-8B2F-EC456DEDDE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EA36-A5B8-4BB2-AE45-E571EB30DB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C05-E0A9-4F98-A2D6-18CF86919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9EE-3F18-4417-A9F6-E46222D39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8777-FE7E-4B28-B672-3B4E837F85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AC9D-CB1E-4B8A-890C-85DE34A46D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56B5-26F7-48F4-95B1-0A4E55C7E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B8FF-E9D8-4C89-8F4D-B05091B30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10ED-AE45-4BEB-B162-7C072B85CB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2F53-E76A-46C0-9A92-9AE28F7B0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CDFD-824F-4EE2-89DF-9752A2C31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E71D-88D3-4EA5-85D1-FCB6B4F36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4F8-0CCE-4B05-9EB7-A6EE92D08E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414600" y="3067200"/>
            <a:ext cx="23148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90360" y="990720"/>
            <a:ext cx="8963280" cy="4876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8101080" y="19890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27176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11280" y="3789360"/>
            <a:ext cx="1152360" cy="1871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835280" y="3817800"/>
            <a:ext cx="1296720" cy="1871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797120" y="3500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492360" y="3808440"/>
            <a:ext cx="1152720" cy="1871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788000" y="3860640"/>
            <a:ext cx="1296720" cy="19447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427640" y="3500280"/>
            <a:ext cx="1008000" cy="301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300720" y="3860640"/>
            <a:ext cx="1152720" cy="1872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596360" y="3789360"/>
            <a:ext cx="1296720" cy="1944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273800" y="3490920"/>
            <a:ext cx="1008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833400" y="2828880"/>
            <a:ext cx="7477200" cy="1200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384720" cy="301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003640" y="3303720"/>
            <a:ext cx="3384720" cy="3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185760" y="692280"/>
            <a:ext cx="8772480" cy="5991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067280" y="163836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4067280" y="193500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067280" y="222408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3986280" y="2521080"/>
            <a:ext cx="3673440" cy="301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3995640" y="2852640"/>
            <a:ext cx="3673440" cy="30168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8379" descr=""/>
          <p:cNvPicPr/>
          <p:nvPr/>
        </p:nvPicPr>
        <p:blipFill>
          <a:blip r:embed="rId7"/>
          <a:stretch/>
        </p:blipFill>
        <p:spPr>
          <a:xfrm>
            <a:off x="744480" y="3747960"/>
            <a:ext cx="1600200" cy="28958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8380" descr=""/>
          <p:cNvPicPr/>
          <p:nvPr/>
        </p:nvPicPr>
        <p:blipFill>
          <a:blip r:embed="rId8"/>
          <a:stretch/>
        </p:blipFill>
        <p:spPr>
          <a:xfrm>
            <a:off x="4095720" y="3795840"/>
            <a:ext cx="1562040" cy="2200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8566200" y="3357720"/>
            <a:ext cx="431640" cy="301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0"/>
          <a:stretch/>
        </p:blipFill>
        <p:spPr>
          <a:xfrm>
            <a:off x="8585280" y="37893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1"/>
          <a:stretch/>
        </p:blipFill>
        <p:spPr>
          <a:xfrm>
            <a:off x="8585280" y="41688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2"/>
          <a:stretch/>
        </p:blipFill>
        <p:spPr>
          <a:xfrm>
            <a:off x="8594640" y="454644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3"/>
          <a:stretch/>
        </p:blipFill>
        <p:spPr>
          <a:xfrm>
            <a:off x="8585280" y="495144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4"/>
          <a:stretch/>
        </p:blipFill>
        <p:spPr>
          <a:xfrm>
            <a:off x="8575560" y="53737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5"/>
          <a:stretch/>
        </p:blipFill>
        <p:spPr>
          <a:xfrm>
            <a:off x="8532720" y="577692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6"/>
          <a:stretch/>
        </p:blipFill>
        <p:spPr>
          <a:xfrm>
            <a:off x="8532720" y="6180120"/>
            <a:ext cx="43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15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